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C89-031E-44F4-BC93-5F6395A1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0E7-A012-4696-A074-951D28E9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8B8-7B2A-458B-9DCD-8273B6E4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ACD-C044-4E94-A364-617FB5E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843-25AE-4C67-9A4C-D4A8983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FC8-05EE-458C-8855-B9BFD02F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2DA-ACFA-4152-A7EA-C74CF9C1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0EA-E845-4FD7-89C5-301FCA2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17F-B43A-435A-8626-D3D96EB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146-5A6F-48C2-A4B5-ADA2EF4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E2B-9598-4B47-8B4C-EA3B43FC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8BA-3401-4313-A103-FC39698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E8FE-8CDA-4D91-B060-EC117CDC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peldeparede.fotosdahora.com.br/papeldeparede/mostra_papeldeparede.asp?cod=3675&amp;titulo=montanhas_dourada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r.dada.net/image/17161402/spouting-horn-blowhole-kauai-hawaii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53920" y="0"/>
            <a:ext cx="9997920" cy="734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ANÇÃO DE EXILIO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onçalves Di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ha terra tem palmeira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de canta o Sabia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ves, que aqui gorjeiam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ão gorjeiam como lá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lique para ampliar montanhas dourad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-24300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20280"/>
            <a:ext cx="6400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o céu tem mais estrel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as várzeas têm mais fl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os bosques têm mais v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a vida mais am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 "/>
          <p:cNvPicPr/>
          <p:nvPr/>
        </p:nvPicPr>
        <p:blipFill>
          <a:blip r:embed="rId1"/>
          <a:stretch/>
        </p:blipFill>
        <p:spPr>
          <a:xfrm>
            <a:off x="0" y="-581040"/>
            <a:ext cx="9144000" cy="743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Em cismar, sozinho, á noi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Mais prazer eu encontro lá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Minha terra tem palmeira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Onde canta o sabi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weeping willow the netherlands"/>
          <p:cNvPicPr/>
          <p:nvPr/>
        </p:nvPicPr>
        <p:blipFill>
          <a:blip r:embed="rId1"/>
          <a:stretch/>
        </p:blipFill>
        <p:spPr>
          <a:xfrm>
            <a:off x="-468360" y="11160"/>
            <a:ext cx="12528720" cy="7854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rra tem prim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tais não encontro eu cá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cismar sozinho, à n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prazer encontro eu lá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m palmeir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sailing the open wa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98400"/>
            <a:ext cx="12168360" cy="8094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71280" y="404640"/>
            <a:ext cx="7048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Não permita Deus que eu Morr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Sem que eu volto para lá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Sem que desfrute os prim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Que não encontro por cá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Sem qu´inda aviste as palmeira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Onde canta o sabiá</a:t>
            </a:r>
            <a:r>
              <a:rPr b="1" i="1" lang="pt-BR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a Dilza Nato Gonçalves Reginat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ola Estadual Senador Filinto Müller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urso CBIV – 2009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rientação: Profª Ma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3:55:41Z</dcterms:created>
  <dc:creator>ESCOLA FILINTO</dc:creator>
  <dc:description/>
  <dc:language>en-US</dc:language>
  <cp:lastModifiedBy>Escola</cp:lastModifiedBy>
  <dcterms:modified xsi:type="dcterms:W3CDTF">2009-06-25T17:49:17Z</dcterms:modified>
  <cp:revision>3</cp:revision>
  <dc:subject/>
  <dc:title>CANÇÃO DE EXILIO  Gonçalves Dias </dc:title>
</cp:coreProperties>
</file>